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7621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antec Visual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 para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é de Oliveira Guimarã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61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54320" cy="542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251240" y="700200"/>
            <a:ext cx="476244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Package contém todas as class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ora de qualquer pack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 é o package com a ASA (A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arquivos da AST estão em um diretóri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hamado AST dentro do diretório corr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arquivo da AST começa c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package A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utilizar as classes do package AST 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lasse Compiler, importe o pacote: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import AST.*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utilizar a classe Compiler dentro 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ST, importe apenas a class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import Compil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21200" cy="565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708440" y="547560"/>
            <a:ext cx="3719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é a janela obtida com  o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/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olha “Application .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4343400"/>
            <a:ext cx="91440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343400" y="5029200"/>
            <a:ext cx="2719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os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362320"/>
            <a:ext cx="9144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67080" y="2743200"/>
            <a:ext cx="4700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xecução do programa começa no méto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public void main(String []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a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200400" y="167652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609480"/>
            <a:ext cx="8384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139920" cy="565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3581280" y="762120"/>
            <a:ext cx="12956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3360" y="471600"/>
            <a:ext cx="364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e encontrar arquivos .class (já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82880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61080" y="2071800"/>
            <a:ext cx="3578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e colocar a saída (.class, .ex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057400"/>
            <a:ext cx="320040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37040" y="3062160"/>
            <a:ext cx="3801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e encontrar os arquivos f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Java e os diretórios dos 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de Oliveira Guimaraes</dc:creator>
  <dc:description/>
  <dc:language>en-US</dc:language>
  <cp:lastModifiedBy>Jose de Oliveira Guimaraes</cp:lastModifiedBy>
  <cp:revision>0</cp:revision>
  <dc:subject/>
  <dc:title>1</dc:title>
</cp:coreProperties>
</file>